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9E9-0FFA-4D4B-9BD2-819BDD68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38A-7BAD-4C53-A69B-5ED5AB3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CFF-B230-4333-B0EA-EEBAC55D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4CC-DA3B-436A-9260-193E7BDC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DBD-0835-4D70-B20E-9A6691BD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D43-A920-40DC-9202-380F0B3D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698-7B0B-4A3C-9BDE-F937B32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006-9329-412E-836E-04B390A4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A5A-F80A-4118-AC03-1D78BB3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5FC-4429-4EC2-B1EC-120ACF6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10D-6C58-4A3C-8E60-B54CF6C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649-6BF8-4563-9E10-6FB7C98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DC41-E67F-4DCC-B892-B6E2B87756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684360" y="1052640"/>
            <a:ext cx="3409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11:32:29Z</dcterms:modified>
  <cp:revision>800</cp:revision>
  <dc:subject/>
  <dc:title>Free PPT Backgrounds</dc:title>
</cp:coreProperties>
</file>